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1A87-3A30-4E5D-A139-D6E98693F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4942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30D5-249F-4239-B227-CCFAF856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BB76-3E4E-4D7A-99BB-5DDB3DA48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7428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7428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49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49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49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CDCD-C123-4360-85AC-C777BEE18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C131C-7845-48AA-B8F5-D947743FB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25618-7AD3-4912-8122-91482B7AA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CD1AE-80AB-47A5-859A-17B8FD3D0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25201-4E27-4570-BC32-73B6CC408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F60B0-928A-48FE-A01C-AFC669437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23960" y="12952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5A35E-0F70-4AB9-8226-949C50AFC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05C6D-628B-4E7F-B4C8-237E8F4B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FE83-3EFF-4EA4-BC04-D56B2D80A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C8356-7715-4518-BB4B-90FFFA45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4942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27F43-1ABF-42D7-85E1-CA40CEBA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4942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70F55-B266-47A4-A640-52E4CE726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DAFAB-0045-40A6-B1FB-5A36DE539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27428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27428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49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49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49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217F5-96D9-4A09-A14A-970595B11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DA78-3A44-418E-9ACF-9A69836C3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D2D7-8710-4620-8AC2-FB7041205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C7BB-5708-409A-81AF-B55CC85D4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23960" y="12952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C37A-A569-4FCE-A9C7-9B34E57D0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CF1F-1FD6-4312-9AC1-B6F5243E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2DEE-F35F-4DE1-AAE4-D73904F0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4942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7558-7D0C-40E1-B9DF-02D162E9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39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622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912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FC865-2EDF-42F8-9E55-1422020E9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295280" y="1701720"/>
            <a:ext cx="118080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D2564-ACC4-4076-BB84-DD90B2BAE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us.ucf.edu/shornik/acg5405/Documents/5405_Course Agreement.doc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us.ucf.edu/shornik/acg5405/Documents/Team Charter.doc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shornik@bus.ucf.edu" TargetMode="External"/><Relationship Id="rId3" Type="http://schemas.openxmlformats.org/officeDocument/2006/relationships/hyperlink" Target="http://acg5405.wikispaces.com/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kipwhite.com/" TargetMode="External"/><Relationship Id="rId3" Type="http://schemas.openxmlformats.org/officeDocument/2006/relationships/hyperlink" Target="http://www.gliffy.com/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99840" y="1980720"/>
            <a:ext cx="609588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CG 540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ced Accounting Informa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urse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you with the basic background and tools that will allow you to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acilitate and/or ass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evolution of contemporary accounting information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equires a solid understanding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c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which effective systems ar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signed and develop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ey compon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an effectiv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ntity-wide internal control syste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c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which efficient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atabase desig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be used to improv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counting information f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) the contemporary issues involved in providing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ssurance services for systems and database reliabil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in Understanding of XB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arily, to become consumers of information related to new technolog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Group Project Proc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’s &amp; Group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up Evaluations (Who/wha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group member will evaluate every other group m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in term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itment to th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to deal constructively with confli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participation in decision-m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untability for assigned task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ption of initiative or leadership 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up Evaluations (Whe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end of th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-100 point 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 individual evaluation is a D or less (&lt; 67) your overall project score will be 0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kiSp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 Invitation or Click “Join”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 if you haven’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e-mail for Inv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mail address comes from e-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your pro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a Picture (nice but not requir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your e-community pi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aborative Web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Add material to any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Edit material already posted to a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Delete material posted to a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Create a new page with new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Pages, Podcasts, Video, Audio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23960" y="1294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iver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DFD sections of chapter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ed </a:t>
            </a:r>
            <a:r>
              <a:rPr b="0" lang="en-US" sz="32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course agre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January 15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GH Problem 4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nderful Stuff, In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do this in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Wikispace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Things to Keep You Bus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2590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thinking about team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and your team members will be spending a lot of time together so choose wis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schedules of other prospective team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the </a:t>
            </a:r>
            <a:r>
              <a:rPr b="0" lang="en-US" sz="28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team cha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ourse documents of 5405 Web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e January 29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o Exp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the concepts of 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s open the door. You enter by yourself”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old Chinese prover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ing the concepts (Group Ca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e have to learn to do, we learn by doing”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ristot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ing 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FD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D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wch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ing Contr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B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llabus Highl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Steven Hor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il: </a:t>
            </a:r>
            <a:r>
              <a:rPr b="0" lang="en-US" sz="28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shornik@bus.ucf.e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rse Webpage: </a:t>
            </a:r>
            <a:r>
              <a:rPr b="0" lang="en-US" sz="2800" spc="-1" strike="noStrike" u="sng">
                <a:solidFill>
                  <a:srgbClr val="0033cc"/>
                </a:solidFill>
                <a:uFillTx/>
                <a:latin typeface="Arial"/>
                <a:hlinkClick r:id="rId3"/>
              </a:rPr>
              <a:t>http://acg5405.wikispaces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ice Hours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day 5:00 - 6:00 and Tuseday 5:00-6:00, and by appoin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 (Yahoo): shor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use Meebo Widget in Wikisp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23960" y="1294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xt B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unting Information Systems 7th ed., by  Gelinas and Du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ccountants Guide to XBRL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d., by Clinton E Wh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only at </a:t>
            </a:r>
            <a:r>
              <a:rPr b="0" lang="en-US" sz="28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http:www.skipwhit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A </a:t>
            </a:r>
            <a:r>
              <a:rPr b="0" lang="en-US" sz="3200" spc="-1" strike="noStrike" u="sng">
                <a:solidFill>
                  <a:srgbClr val="0033cc"/>
                </a:solidFill>
                <a:uFillTx/>
                <a:latin typeface="Arial"/>
                <a:hlinkClick r:id="rId3"/>
              </a:rPr>
              <a:t>Gliff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count – Web Based Modeling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e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 1 (G&amp;D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Exam (XBRL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Proj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Assignment (4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ion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Po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ing S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2742840"/>
            <a:ext cx="38098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 4.00 100-9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- 3.75 92-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+ 3.25 89-8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 3.00 85-8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- 2.75 82-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+ 2.25 79-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 2.00 75-7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7960" y="2742840"/>
            <a:ext cx="38098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- 1.75 72-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+ 1.25 69-6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 1.00 65-6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- 0.75 62-6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 0.00 &lt;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graded Assignments (UGH’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permitting we will do these in-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icip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In Class, Ask Questions, New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W /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In Class, Prepared to discu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 of p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ch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-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solving / model bui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7T16:18:38Z</dcterms:created>
  <dc:creator>shornik</dc:creator>
  <dc:description/>
  <dc:language>en-US</dc:language>
  <cp:lastModifiedBy> </cp:lastModifiedBy>
  <dcterms:modified xsi:type="dcterms:W3CDTF">2008-01-08T16:58:01Z</dcterms:modified>
  <cp:revision>52</cp:revision>
  <dc:subject/>
  <dc:title>ACG 5405 Intro</dc:title>
</cp:coreProperties>
</file>